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F88-E097-4D9F-8C95-15C180A19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C17-9668-49BD-9CA1-2E36CF6FF8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309-05BB-40AF-8158-F9F41CB327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1ED-53A9-4C9A-95AA-909DD96199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256-CCDD-4467-912E-AAEA391D13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528-8DEE-416E-BC15-FC1E54011F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965-3EF4-4615-A48D-E4E9F13F55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666A-DAF6-4A30-8B95-3ECE3258C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47D-C392-49DB-A1B9-F33AF7F360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F12E-C058-4B95-A394-849A35E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5102-BA30-404E-A6CB-1C49B631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6807-F545-44B5-83B0-676EAE26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947D-B8CE-494A-9783-B810E92F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991C-37EE-4585-A95D-976A6631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238E-855E-4FC3-A828-8618488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4FF1-3700-497A-BDF0-B36CF977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90CF-3396-4F4C-ABC3-16FB193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190A-FB57-4770-80D7-BF3400C8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569-8472-4035-BF56-5C04D348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050-083F-469F-A687-06041DF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07F8-E6BA-4DFD-9CE9-600BBEB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AAF-D601-4407-8BD6-B6265B15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D563-D493-40B9-86EE-CC4C71B9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436E-CD72-4735-B87E-8FD16E9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F2A-BBE1-44E1-BF70-7E9FB525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985-C711-441A-A359-22F0B355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850B-83D5-4674-B2FB-518C624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89B2-EAD6-4EBB-8F58-2FBDA48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25E3-D20A-4149-8CA0-A403598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81F1-9742-46F0-AB39-B18E308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325B-DBD2-43A7-982A-3060898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0E9D-9F15-4E44-BE04-2050438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0BA6-698E-49EB-AED5-B44BF54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AF5F-A81F-444E-89C0-46C8A1428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64A-9052-44B4-8F42-7641CE532C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Эффективность урока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как условие повышения качества образования 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в начальной школе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Подготовил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Руководитель МО 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Кульмурзаева А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2020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1376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«Расскажи мне, и я забуду, покажи мне, и я запомню, дай мне попробовать, и я научусь»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бы сделать процесс обучения продуктивным, творческим, личностно-ориентированным нужно немногое: признать право каждого ребёнка на самоценность, индивидуальность, стремление самостоятельно добывать знания и применять их в разнообразной и интересной для него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33000"/>
            <a:ext cx="861084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Психологический комфорт</a:t>
            </a: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buClr>
                <a:srgbClr val="ffcc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нятие стрессобразующих факторов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spcBef>
                <a:spcPts val="1001"/>
              </a:spcBef>
              <a:buClr>
                <a:srgbClr val="ffcc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оздание благоприятной атмосферы, ситуации успеха «Я могу!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вышение уровня школьной мотивац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звитие и формирование познавательных процесс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0" descr="1089"/>
          <p:cNvPicPr/>
          <p:nvPr/>
        </p:nvPicPr>
        <p:blipFill>
          <a:blip r:embed="rId1"/>
          <a:stretch/>
        </p:blipFill>
        <p:spPr>
          <a:xfrm>
            <a:off x="3200400" y="0"/>
            <a:ext cx="2529000" cy="2004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4343400" y="3352680"/>
            <a:ext cx="762120" cy="1447920"/>
          </a:xfrm>
          <a:prstGeom prst="downArrow">
            <a:avLst>
              <a:gd name="adj1" fmla="val 50000"/>
              <a:gd name="adj2" fmla="val 47496"/>
            </a:avLst>
          </a:prstGeom>
          <a:solidFill>
            <a:srgbClr val="ffcc00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3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Мы шагаем, мы шагаем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Руки выше поднима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Вдруг мы види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У куста выпал птенчик из гнезд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ихо птенчика берё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И назад в гнездо кладё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685800" y="533520"/>
            <a:ext cx="799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Физкультминут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7" descr="0012-019-Fizkultminutka"/>
          <p:cNvPicPr/>
          <p:nvPr/>
        </p:nvPicPr>
        <p:blipFill>
          <a:blip r:embed="rId1"/>
          <a:stretch/>
        </p:blipFill>
        <p:spPr>
          <a:xfrm>
            <a:off x="6400800" y="3276720"/>
            <a:ext cx="250524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Я для себя сделал    открытие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Меня удивило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Оказывается, что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209680" y="685800"/>
            <a:ext cx="4724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Verdana"/>
              </a:rPr>
              <a:t>Мои открыт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Verdana"/>
              </a:rPr>
              <a:t>на урок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Verdana"/>
              <a:ea typeface="Verdana"/>
            </a:endParaRPr>
          </a:p>
        </p:txBody>
      </p:sp>
      <p:pic>
        <p:nvPicPr>
          <p:cNvPr id="146" name="Picture 5" descr="cveta-1221"/>
          <p:cNvPicPr/>
          <p:nvPr/>
        </p:nvPicPr>
        <p:blipFill>
          <a:blip r:embed="rId1"/>
          <a:stretch/>
        </p:blipFill>
        <p:spPr>
          <a:xfrm>
            <a:off x="6705720" y="2057400"/>
            <a:ext cx="176508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12884" t="0" r="12738" b="0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Использование ИКТ в начальной школе позволяет: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ктивизировать познавательную деятельность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водить уроки на высоком эстетическом уровне (музыка, анимаци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ндивидуально подойти к ученику, применяя разноуровневые зад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123199454_marriettaru"/>
          <p:cNvPicPr/>
          <p:nvPr/>
        </p:nvPicPr>
        <p:blipFill>
          <a:blip r:embed="rId1"/>
          <a:stretch/>
        </p:blipFill>
        <p:spPr>
          <a:xfrm>
            <a:off x="5562720" y="1981080"/>
            <a:ext cx="33526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Урок окружающего мир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а урока: «Круговорот воды в природ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dvizhenie-podzemnyh-vod-otnositsya-k-vsemirnomu-krugovorotu-vody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800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Урок математ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стный сч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296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502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60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a886e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2367000" y="527040"/>
            <a:ext cx="2685960" cy="4241880"/>
            <a:chOff x="2367000" y="527040"/>
            <a:chExt cx="2685960" cy="4241880"/>
          </a:xfrm>
        </p:grpSpPr>
        <p:sp>
          <p:nvSpPr>
            <p:cNvPr id="164" name="Freeform 7"/>
            <p:cNvSpPr/>
            <p:nvPr/>
          </p:nvSpPr>
          <p:spPr>
            <a:xfrm>
              <a:off x="2367000" y="527040"/>
              <a:ext cx="2685960" cy="4241880"/>
            </a:xfrm>
            <a:prstGeom prst="pie">
              <a:avLst/>
            </a:prstGeom>
            <a:noFill/>
            <a:ln w="152280">
              <a:solidFill>
                <a:srgbClr val="a886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AutoShape 8"/>
            <p:cNvSpPr/>
            <p:nvPr/>
          </p:nvSpPr>
          <p:spPr>
            <a:xfrm>
              <a:off x="3708360" y="12682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4572000" y="2565360"/>
            <a:ext cx="2808360" cy="4249440"/>
            <a:chOff x="4572000" y="2565360"/>
            <a:chExt cx="2808360" cy="4249440"/>
          </a:xfrm>
        </p:grpSpPr>
        <p:sp>
          <p:nvSpPr>
            <p:cNvPr id="167" name="Freeform 10"/>
            <p:cNvSpPr/>
            <p:nvPr/>
          </p:nvSpPr>
          <p:spPr>
            <a:xfrm>
              <a:off x="4572000" y="2565360"/>
              <a:ext cx="2808360" cy="4249440"/>
            </a:xfrm>
            <a:prstGeom prst="pie">
              <a:avLst/>
            </a:prstGeom>
            <a:noFill/>
            <a:ln w="152280">
              <a:solidFill>
                <a:srgbClr val="a886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6156360" y="285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9" name="AutoShape 12"/>
          <p:cNvSpPr/>
          <p:nvPr/>
        </p:nvSpPr>
        <p:spPr>
          <a:xfrm rot="12875400">
            <a:off x="3708360" y="14857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90751E-006 C 0.01598 -0.03931 0.03212 -0.07838 0.04914 -0.09734 C 0.06615 -0.1163 0.08837 -0.11838 0.10157 -0.11422 C 0.11476 -0.11006 0.125 -0.0948 0.12848 -0.07191 C 0.13195 -0.04902 0.14983 -0.02266 0.12223 0.02312 C 0.09462 0.0689 -0.01284 0.17433 -0.03663 0.20254 C -0.06041 0.23098 -0.02968 0.19029 -0.02065 0.19445 C -0.01163 0.19815 0.00816 0.21202 0.01737 0.22613 C 0.02657 0.24023 0.03525 0.25364 0.0349 0.27907 C 0.03455 0.30451 0.02796 0.34728 0.0158 0.37826 C 0.00365 0.40925 -0.02187 0.44532 -0.03819 0.46497 C -0.05451 0.48462 -0.07048 0.49017 -0.08263 0.49665 C -0.09479 0.50312 -0.09861 0.50497 -0.11111 0.50312 C -0.12361 0.50104 -0.14965 0.4978 -0.15729 0.48393 C -0.16493 0.46982 -0.15729 0.42936 -0.15729 0.41826 E">
                                      <p:cBhvr>
                                        <p:cTn id="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13 0.2148 C 0.28455 0.19723 0.29497 0.17965 0.30573 0.17041 C 0.3165 0.16116 0.33038 0.15584 0.33906 0.15977 C 0.34775 0.1637 0.35729 0.17226 0.35816 0.19376 C 0.35903 0.21526 0.37031 0.2437 0.34393 0.28879 C 0.31754 0.33387 0.22031 0.43746 0.19948 0.46428 C 0.17865 0.4911 0.2099 0.44879 0.21858 0.44948 C 0.22726 0.45017 0.24514 0.44624 0.25191 0.46844 C 0.25868 0.49064 0.26667 0.54289 0.25972 0.58266 C 0.25278 0.62243 0.23021 0.6763 0.21059 0.70728 C 0.19097 0.73827 0.1592 0.76509 0.14236 0.76856 C 0.12552 0.77202 0.11111 0.7459 0.10903 0.72856 C 0.10695 0.71121 0.08264 0.71954 0.12969 0.66497 C 0.17674 0.61041 0.28403 0.50567 0.3915 0.40093 E">
                                      <p:cBhvr>
                                        <p:cTn id="9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План выступлени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Вступление. Каким должен быть эффективный урок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Этапы эффективного уро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Коллективная форма познавательной деятельности: работа в парах, групп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Современные информационные технологии, их применение на уро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Заключение. Какие факторы влияют на эффективность современного урок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Результаты использования ИК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1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повышает качество знаний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1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продвигает ребёнка в общем развитии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1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помогает преодолеть трудности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1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вносит радость в жизнь ребёнка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1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Unicode MS"/>
              </a:rPr>
              <a:t>создаёт благоприятные условия для лучшего взаимопонимания учителя и учащихся и их сотрудничества в учебном процессе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8" descr="animashki-komputeri-318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На эффективность современного урока влияют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ние нового подхода к урок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ние современных педагогических и информационных технолог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психологического комфорта на урок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школьной мотив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и развит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знавательных проце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114800" y="4191120"/>
            <a:ext cx="106668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1371600" y="762120"/>
            <a:ext cx="70102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514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Спасибо </a:t>
            </a:r>
            <a:endParaRPr b="1" lang="en-US" sz="1800" spc="1" strike="noStrike">
              <a:ln w="12600">
                <a:solidFill>
                  <a:srgbClr val="000514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000514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514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за внимание!</a:t>
            </a:r>
            <a:endParaRPr b="1" lang="en-US" sz="1800" spc="1" strike="noStrike">
              <a:ln w="12600">
                <a:solidFill>
                  <a:srgbClr val="000514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79" name="Picture 6" descr="950678331"/>
          <p:cNvPicPr/>
          <p:nvPr/>
        </p:nvPicPr>
        <p:blipFill>
          <a:blip r:embed="rId6"/>
          <a:stretch/>
        </p:blipFill>
        <p:spPr>
          <a:xfrm>
            <a:off x="3581280" y="2666880"/>
            <a:ext cx="21337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Unicode MS"/>
              </a:rPr>
              <a:t>Эффективност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Unicode MS"/>
              </a:rPr>
              <a:t>означает результа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Unicode MS"/>
              </a:rPr>
              <a:t>какого-либо действ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Урок сегодня: развитие, творчество, комфор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предметной компетен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информационной куль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познавательной активности и самосто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мыш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коммуникативной компетен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психологически комфортной сре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образие учеб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cc00"/>
                </a:solidFill>
                <a:latin typeface="Garamond"/>
              </a:rPr>
              <a:t>Урок как дорога в будущее</a:t>
            </a:r>
            <a:endParaRPr b="1" lang="en-US" sz="4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ка идешь за кем-то вслед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Дорога не запомни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Зато, куда б ты ни попа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И по какой распутице                   Дорога та, что сам иск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овек не позабуде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(Н. Рыленков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bd06652_"/>
          <p:cNvPicPr/>
          <p:nvPr/>
        </p:nvPicPr>
        <p:blipFill>
          <a:blip r:embed="rId1"/>
          <a:stretch/>
        </p:blipFill>
        <p:spPr>
          <a:xfrm>
            <a:off x="6629400" y="2666880"/>
            <a:ext cx="223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entury Gothic"/>
              </a:rPr>
              <a:t>Ведущая иде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в классе атмосфер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крытости, ответственного сотрудничества, сотворче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ние моделей обучения, способствующих развитию навыков самосто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учение анализу своей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активной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самовыражения, развития чувств и эмо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8" descr="pe00014_"/>
          <p:cNvPicPr/>
          <p:nvPr/>
        </p:nvPicPr>
        <p:blipFill>
          <a:blip r:embed="rId1"/>
          <a:stretch/>
        </p:blipFill>
        <p:spPr>
          <a:xfrm>
            <a:off x="6553080" y="7621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entury Gothic"/>
              </a:rPr>
              <a:t>На уроке важ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дея ценности лич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иентация на воспитание социальной ответ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ование различных точек зрения, отсутствие единой, жестко заданной нормы восприятия изучаемого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ивные отношения между субъектами обучения.</a:t>
            </a:r>
            <a:r>
              <a:rPr b="1" lang="ru-RU" sz="2800" spc="-1" strike="noStrike">
                <a:solidFill>
                  <a:srgbClr val="6600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Деятельностный характер обучени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3915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актические раб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перим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щение к научным парадокс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кур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метода проек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cc00"/>
                </a:solidFill>
                <a:latin typeface="Garamond"/>
              </a:rPr>
              <a:t>Основные этапы урока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35000"/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Актуализация знаний, вызов информации, полученной ранее на уроках, из жизн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35000"/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Осмысление,  активное изучение нового матери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35000"/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Рефлексия (размышление об узнанн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22:23:16Z</dcterms:created>
  <dc:creator>user</dc:creator>
  <dc:description/>
  <dc:language>en-US</dc:language>
  <cp:lastModifiedBy>Work</cp:lastModifiedBy>
  <dcterms:modified xsi:type="dcterms:W3CDTF">2020-12-11T06:47:1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