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E66B7-9E7E-4E39-8408-6ACEE5D72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A4D7C-19ED-4FA0-B512-8B251AB754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5679E-8668-4AEA-B790-898A9D971A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53EF78-AD01-43B2-B444-AA7381B2F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Уделите внимание тому, чем дети занимаются в Интерн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Держите устройства с подключением к Интернету в центре вним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сположите все компьютеры и устройства, подключенные к Интернету, так, чтобы дети находились в центре внимания, например в гостиной или в общей комнате. Это также касается всех игровых устройств. Когда Ваши дети в Интернете, Вы должны свободно видеть и слышать, чем они заним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Узнайте, для чего Ваши дети используют Интер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Важно знать, для чего Ваши дети используют Интернет, чем они там занимаются, а также быть в курсе того, что они при этом испытывают. Узнайте, в какие игры играют Ваши дети, и поиграйте с ними, чтобы действительно понять их. Время от времени проверяйте их блоги и зайдите в чаты, которые они посещают. Изучите их профили в сообществах, чтобы узнать, как они себя представляют в Интернете, и убедитесь, что они не делятся лишними личными сведен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звольте вашим детям учить в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просите детей показать, чем они занимаются и с кем общаются в Интернете. Убедить детей рассказать Вам об их мире — отличный способ общения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учите их доверять своим инстинктам и сообщать о любых неприятност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Дети зачастую инстинктивно чувствуют, когда что-то не так. Приучите детей доверять своим инстинктам и немедленно сообщать Вам, если они обнаружат в Интернете что-то, что вызывает в них чувство дискомфорта, угрожает или пугает их. Дайте им понять, что их не лишат компьютера и не накажут, если они расскажут о своих увлеч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7F046-33B9-4C08-A524-BC84BEF403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B64CEF-5D16-42D3-98B7-3B017A876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Интернет — глобальная сеть, объединяющая огромное количество персональных компьютеров по всему миру. Ежедневно более миллиарда людей по всему миру используют Интернет для работы, покупок, поиска информации и развлечений, а также для общения с друзьями и коллегам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Интернет — хранилище огромного количества информации, изображений и идей. Вы можете посещать музеи мирового класса, получать образование, управлять личными финансами и планировать отдых, а также играть в игры, загружать музыку и фильмы, покупать товары и услуги и заводить друзе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Интернет изменил способ покупки товаров и предоставил новые способы общения. Интернет сделал дальнюю связь доступнее, а исследования эффективнее. То, как мы учимся, следим за новостями, делимся впечатлениями и развлекаемся, все больше зависит от того, подключены ли к Интернету наши компьютеры, сотовые телефоны и другие устройств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А где комфортнее всего использовать Интернет, как не дома, в полной безопасности, не правда ли? И вот тут возникает проблема. Преимущества невозможны без рисков. Мир Интернета, как и реальный мир, не избавлен от неприятностей, опасностей и ненадежных люде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Мы ценим Интернет, поскольку он дает новые мощные возможности для связи, покупок и общения. Однако вместе с ним в наши дома проникает и внешний мир. Это требует изменить наши представления о защите и безопасности в Интернет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Обычно, покидая безопасную атмосферу дома и выходя в окружающий мир, мы инстинктивно усиливаем защиту, становясь более подготовленными к возможным опасностям. Вернувшись домой, мы снова снижаем защиту и расслабляемся. Эти действия мы совершаем автоматически, не задумываясь. Однако безопасность в Интернете требует повышать уровень защиты даже в собственном доме или там, где мы обычно чувствуем себя в безопасност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Поскольку Интернет превращает компьютер в окно между внешним миром и домом, интернет-безопасность требует использовать средства, контролирующие, кто или что входит в наш дом, и развивающие бдительность: кому стоит доверять, а кому 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При любом выходе в Интернет существует угроза вашей безопасности. Эти опасности могут угрожать Вашей семье, Вашей конфиденциальности, Вашему авторитету и Вашему компьютер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SimSun"/>
              </a:rPr>
              <a:t>Вот почему важно знать, как защитить себя в Интернет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05B4E-C8D4-4AB5-84DC-FC8F9F7373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E2356-02BD-4625-B153-2E4BF066E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Основная угроза вашему компьютеру — вредоносные программы: вирусы, программы-черви, программы-трояны и потенциально нежелательные программы, подобные программам-шпионам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Вирус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Компьютерные вирусы — программы, специально разработанные для вторжения на компьютер с целью нарушения его работы, а также копирования, повреждения или удаления данных. Эти программы называются вирусами потому, что распространяются на другие компьютеры: в большинстве случаев они требуют для этого некоторых действий пользователя, например щелчка на вложении электронного сообщения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Компьютерные вирусы могут содержаться в чем-то на первый взгляд интересном, например в развлекательных программах или во вложениях сообщений электронной почты, таких как компьютерные игры, видеоклипы или фотографии. Множество вирусов распространяется случайной рассылкой зараженных электронных сообщений друзьям и коллегам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Программы-черв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Программы-черви — это более хитроумные вирусы, заражающие другие компьютеры сети автоматически, без участия пользователя. Чтобы заразить другой компьютер, программы-черви захватывают управление определенными программами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Программы-трояны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Этот тип вирусов, названный в честь троянского коня, маскируется под полезные программы, например игры или антишпионские программы. Попав на компьютер, они могут незаметно уничтожить или похитить ваши данные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Программы-шпион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Программы-шпионы отслеживают действия пользователя и отправляют сведения о них своему создателю или совершают какие-либо действия, зависящие от поведения пользователя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Программы-шпионы могут надоедать всплывающими рекламными окнами, связанными с веб-узлами, которые Вы регулярно посещаете. Они также могут собирать личные сведения или изменять настройки компьютера без Вашего ведома. Программы-шпионы могут даже повредить компьютер или позволить преступникам ‎‎украсть идентификационные сведения, то есть удостоверяющие Вас данные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SimSun"/>
              </a:rPr>
              <a:t>К счастью, есть множество способов защиты компьютера от вредоносных и потенциально нежелательных программ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D093F-9698-415B-BA5E-A7DA884F75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0CC3D-961E-492A-9779-FBDE98FA6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судите с детьми опасности Интер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ткрыто поговорите с детьми об опасностях Интернета, в том числе о недопустимом контенте, вторжении в частную жизнь и нежелательных связях с другими детьми или взрослыми. Объясните им, как их собственное поведение может снизить угрозу и обеспечить безопасность в Интернете. Эти знания очень помогут детя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Если вы хотите подготовиться к разговору с детьми или узнать, чему их нужно научить, обратитесь к следующим полезным ресурс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www.microsoft.com/rus/protec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http://www.content-filtering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http://www.friendlyrunet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http://www.saferunet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5CD2-A377-4579-BCF7-85EAF5F0AB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A35265-19C5-4D11-B39E-87F184098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Уделите внимание тому, чем дети занимаются в Интерн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Держите устройства с подключением к Интернету в центре вним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сположите все компьютеры и устройства, подключенные к Интернету, так, чтобы дети находились в центре внимания, например в гостиной или в общей комнате. Это также касается всех игровых устройств. Когда Ваши дети в Интернете, Вы должны свободно видеть и слышать, чем они заним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Узнайте, для чего Ваши дети используют Интер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Важно знать, для чего Ваши дети используют Интернет, чем они там занимаются, а также быть в курсе того, что они при этом испытывают. Узнайте, в какие игры играют Ваши дети, и поиграйте с ними, чтобы действительно понять их. Время от времени проверяйте их блоги и зайдите в чаты, которые они посещают. Изучите их профили в сообществах, чтобы узнать, как они себя представляют в Интернете, и убедитесь, что они не делятся лишними личными сведен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звольте вашим детям учить в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просите детей показать, чем они занимаются и с кем общаются в Интернете. Убедить детей рассказать Вам об их мире — отличный способ общения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учите их доверять своим инстинктам и сообщать о любых неприятност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Дети зачастую инстинктивно чувствуют, когда что-то не так. Приучите детей доверять своим инстинктам и немедленно сообщать Вам, если они обнаружат в Интернете что-то, что вызывает в них чувство дискомфорта, угрожает или пугает их. Дайте им понять, что их не лишат компьютера и не накажут, если они расскажут о своих увлеч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0301-15CE-4D81-92BF-47F5FA66B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5880-3214-4DF2-8307-1273C9E3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AF40-7CBD-49C2-A153-3B6F887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2460-ACFD-475E-ACD3-9E23EDA95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C1582-9DFA-405B-B172-B905C0A50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40A7C-3A3F-40E5-A68F-D4976F46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4303C-B65D-46D4-A720-EF3DF724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3C2E7-6C11-451C-A90A-9905BE3C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88F2-A484-4A43-A344-9AA7B40F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60E25-2D06-423A-8E2C-6046D230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D6048-DC3F-4B55-8CB8-45CAF3E4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9266-B8BE-4EAA-AE2D-3AE50E5B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E410-6B40-4345-BF89-8F00E2E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A1A58-87C9-4C94-8977-C9628EC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A297B-7C93-43E1-9B61-EFCE6872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47FB7-3EF4-4D5F-A4B8-FD570D2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8B19C-346E-42EB-9D1A-CA13CA8DC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713F-DE30-43DF-8406-EAF876DBB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B76-546A-40B8-BB30-BDC0987A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3B9C-4427-4EAD-B7BD-5C089B8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68AF-09D5-4226-BB5A-91A66D48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A31D-B003-4FDF-A7BF-81779147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ED40-427C-4628-A150-98880CCA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278B-85E4-43C6-B654-84D8F7F4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2E1E-736F-4045-B9D8-F9C2FC58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FCBA-F9F7-4BCA-B8D4-6FD6698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177-E02E-412B-B7B3-8BCB368D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D870-C554-4D92-BC97-95174336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EC6-1602-4EAE-A28A-F30CB4F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C6A-C851-4A8A-B4DE-E3BC5666CA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812D-6272-423F-9CBB-0D4DD344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0754-0B47-4E31-8613-F9B77B62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D596-8C1D-4C5A-B9E5-5618EF53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FC8B-443C-4A3C-8930-8881654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887B-EA8F-4AA3-A6E1-83786855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1932-7C27-4120-83E4-B4702BA0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514A19-75AE-46E5-A0B0-AA13C66956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5D2B55-DCBB-45EF-8243-38A5352876B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97C0AE-474F-4700-A7B9-D9E98958109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571680" y="2071800"/>
            <a:ext cx="824832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Интернет- безопасность младших школьник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учитель начальных классов  МКОУ СОШ №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Дрежжова Наталия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358920"/>
            <a:ext cx="9155160" cy="1338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3320" y="515520"/>
            <a:ext cx="7135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делите внимание тому, че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ти занимаются в Интер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60240" y="2000160"/>
            <a:ext cx="415296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жите компьюте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нтр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найте, для ч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и дети используют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льте Вашим детям учить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е их доверя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м инстинк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дите их сообщ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любых неприят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5135400" y="2095560"/>
            <a:ext cx="293688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072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иучайте ребенка соблюдать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гигиенические прав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640" y="1413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ебенок младшего возраста может находиться за компьютером не более 15 минут в день, в условиях классно-урочной деятельности – не более одного урока, а при наличии противопоказаний офтальмолога – только 10 минут, не более 3 раз в недел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лучше работать за компьютером в первой половине д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комната должна быть хорошо освеще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 работе за компьютером следить за осанкой, мебель должна соответствовать рост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асстояние от глаз до монитора – 60 с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иодически делать зарядку для гла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3" descr="internet_deti30112012.jpg"/>
          <p:cNvPicPr/>
          <p:nvPr/>
        </p:nvPicPr>
        <p:blipFill>
          <a:blip r:embed="rId1"/>
          <a:stretch/>
        </p:blipFill>
        <p:spPr>
          <a:xfrm>
            <a:off x="5292720" y="3933720"/>
            <a:ext cx="34005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8160" cy="4524480"/>
          </a:xfrm>
          <a:prstGeom prst="rect">
            <a:avLst/>
          </a:prstGeom>
          <a:ln w="0">
            <a:noFill/>
          </a:ln>
        </p:spPr>
      </p:pic>
      <p:sp>
        <p:nvSpPr>
          <p:cNvPr id="189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rcRect l="0" t="0" r="0" b="10214"/>
          <a:stretch/>
        </p:blipFill>
        <p:spPr>
          <a:xfrm>
            <a:off x="468360" y="115920"/>
            <a:ext cx="82105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664d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93800" y="4365360"/>
            <a:ext cx="7416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удьте для ребёнка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римером!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Рисунок 3" descr="Семья.jpg"/>
          <p:cNvPicPr/>
          <p:nvPr/>
        </p:nvPicPr>
        <p:blipFill>
          <a:blip r:embed="rId1"/>
          <a:stretch/>
        </p:blipFill>
        <p:spPr>
          <a:xfrm>
            <a:off x="2556000" y="1862280"/>
            <a:ext cx="38923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358920"/>
            <a:ext cx="9155160" cy="1338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87440"/>
            <a:ext cx="6918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рнет — мир широких возмож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59200" y="2313000"/>
            <a:ext cx="522144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2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нтернет позволяет в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261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ться с друзьями, семьей, колле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261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доступ к информации и развлечен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261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ься, встречать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людьми и 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476280" y="1474920"/>
            <a:ext cx="3578040" cy="4276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555480" y="5087880"/>
            <a:ext cx="3014640" cy="66672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Федеральный закон № 436 «О защите детей от информации, причиняющий вред их здоровью и развитию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Информационная безопасность детей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состояние защищенности детей, при котором отсутствует риск, связанный с причинением информацией, в том числе распространяемой в сети Интернет, вреда их здоровью, физическому, психическому, духовному и нравственному развитию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Риск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в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хническ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ологические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3724200" cy="4416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6119640" y="3548160"/>
            <a:ext cx="1347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Угрозы сети 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нтакты с незнакомыми людьми с помощью ч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личные данные, информация о сем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контролируемые покупки, платные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интернет магази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Легкая доступность к нежелательному содержим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(игры, реклама, опасные сайт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5607251_feb8d5ed.jpg"/>
          <p:cNvPicPr/>
          <p:nvPr/>
        </p:nvPicPr>
        <p:blipFill>
          <a:blip r:embed="rId1"/>
          <a:stretch/>
        </p:blipFill>
        <p:spPr>
          <a:xfrm>
            <a:off x="6443640" y="0"/>
            <a:ext cx="248436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649920" y="2205000"/>
            <a:ext cx="2243160" cy="15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6227640" y="4581360"/>
            <a:ext cx="2665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2426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чему дети уходят в Интернет?</a:t>
            </a:r>
            <a:r>
              <a:rPr b="1" lang="ru-RU" sz="3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00000" y="1386000"/>
            <a:ext cx="70963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Лен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диночество, отсутствие друз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Игры заманив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Кажущаяся легкость в общ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облемы в сем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Неумение занять себ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лишком много 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вободног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4" descr="258955.jpg"/>
          <p:cNvPicPr/>
          <p:nvPr/>
        </p:nvPicPr>
        <p:blipFill>
          <a:blip r:embed="rId1"/>
          <a:stretch/>
        </p:blipFill>
        <p:spPr>
          <a:xfrm>
            <a:off x="5508720" y="4005360"/>
            <a:ext cx="3440160" cy="23860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5171_1.jpg"/>
          <p:cNvPicPr/>
          <p:nvPr/>
        </p:nvPicPr>
        <p:blipFill>
          <a:blip r:embed="rId2"/>
          <a:stretch/>
        </p:blipFill>
        <p:spPr>
          <a:xfrm>
            <a:off x="7086600" y="1760400"/>
            <a:ext cx="187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358920"/>
            <a:ext cx="9155160" cy="13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777960" y="2077920"/>
            <a:ext cx="146664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3589200" y="2549520"/>
            <a:ext cx="1467000" cy="147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6315120" y="3000240"/>
            <a:ext cx="1466640" cy="1476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3200400" y="3583080"/>
            <a:ext cx="293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2280" y="3340080"/>
            <a:ext cx="293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211800" y="3583080"/>
            <a:ext cx="293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5"/>
          <a:stretch/>
        </p:blipFill>
        <p:spPr>
          <a:xfrm>
            <a:off x="1143000" y="1868400"/>
            <a:ext cx="1730520" cy="136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6"/>
          <a:stretch/>
        </p:blipFill>
        <p:spPr>
          <a:xfrm>
            <a:off x="3944880" y="2373480"/>
            <a:ext cx="1400400" cy="1269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7"/>
          <a:stretch/>
        </p:blipFill>
        <p:spPr>
          <a:xfrm>
            <a:off x="6689880" y="2824200"/>
            <a:ext cx="1461960" cy="1195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990720" y="5092560"/>
            <a:ext cx="2931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699080" y="3427560"/>
            <a:ext cx="183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853920" y="3567240"/>
            <a:ext cx="228600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ирусы и программы-че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ы, проникающие в компьютер для копирования, повреждения или уничтожения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3630600" y="4038480"/>
            <a:ext cx="26161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рограммы-троя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русы, имитирующие полезные программы для уничтожения данных, повреждения компьютера и похищения личных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6388200" y="4470480"/>
            <a:ext cx="256536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рограммы-шпи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ы, отслеживающие ваши действ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или отображающие навязчивую рекла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1680" y="514440"/>
            <a:ext cx="788652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новные угрозы безопасности компью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8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85840" indent="0" algn="ctr">
              <a:lnSpc>
                <a:spcPct val="85000"/>
              </a:lnSpc>
              <a:spcBef>
                <a:spcPts val="53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Что могут предпринять   родите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14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комппп.jpg"/>
          <p:cNvPicPr/>
          <p:nvPr/>
        </p:nvPicPr>
        <p:blipFill>
          <a:blip r:embed="rId1"/>
          <a:stretch/>
        </p:blipFill>
        <p:spPr>
          <a:xfrm>
            <a:off x="6472080" y="1700280"/>
            <a:ext cx="267192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image002.gif"/>
          <p:cNvPicPr/>
          <p:nvPr/>
        </p:nvPicPr>
        <p:blipFill>
          <a:blip r:embed="rId2"/>
          <a:stretch/>
        </p:blipFill>
        <p:spPr>
          <a:xfrm>
            <a:off x="684360" y="4724280"/>
            <a:ext cx="1866600" cy="16574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5"/>
          <p:cNvSpPr/>
          <p:nvPr/>
        </p:nvSpPr>
        <p:spPr>
          <a:xfrm>
            <a:off x="684360" y="1268280"/>
            <a:ext cx="734364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4400">
              <a:lnSpc>
                <a:spcPct val="85000"/>
              </a:lnSpc>
              <a:spcBef>
                <a:spcPts val="539"/>
              </a:spcBef>
              <a:buClr>
                <a:srgbClr val="80008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е четкие правила использования Интернета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85000"/>
              </a:lnSpc>
              <a:spcBef>
                <a:spcPts val="539"/>
              </a:spcBef>
              <a:buClr>
                <a:srgbClr val="80008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отайте линию поведения в Интернете, снижающую ри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85000"/>
              </a:lnSpc>
              <a:spcBef>
                <a:spcPts val="539"/>
              </a:spcBef>
              <a:buClr>
                <a:srgbClr val="80008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уратно обращайтесь с личными свед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85000"/>
              </a:lnSpc>
              <a:spcBef>
                <a:spcPts val="539"/>
              </a:spcBef>
              <a:buClr>
                <a:srgbClr val="80008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йте технологии защиты от нежелательной почты(спама), встроенные в операционн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85000"/>
              </a:lnSpc>
              <a:spcBef>
                <a:spcPts val="539"/>
              </a:spcBef>
              <a:buClr>
                <a:srgbClr val="80008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е и регулярно обновляйте антивирусное программное обесп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85000"/>
              </a:lnSpc>
              <a:spcBef>
                <a:spcPts val="539"/>
              </a:spcBef>
              <a:buClr>
                <a:srgbClr val="80008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0" y="358920"/>
            <a:ext cx="9155160" cy="1338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2320" y="491760"/>
            <a:ext cx="7299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бсудите с детьм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63400" y="2021040"/>
            <a:ext cx="446724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крыто поговорит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детьми об опасностях Интернета, в том числ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о следующ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30120">
              <a:lnSpc>
                <a:spcPct val="100000"/>
              </a:lnSpc>
              <a:spcBef>
                <a:spcPts val="561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SimSun"/>
              </a:rPr>
              <a:t>Интернет-преступ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30120">
              <a:lnSpc>
                <a:spcPct val="100000"/>
              </a:lnSpc>
              <a:spcBef>
                <a:spcPts val="561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SimSun"/>
              </a:rPr>
              <a:t>Недопустимый конт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30120">
              <a:lnSpc>
                <a:spcPct val="100000"/>
              </a:lnSpc>
              <a:spcBef>
                <a:spcPts val="561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SimSun"/>
              </a:rPr>
              <a:t>Вторжение в частную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ясните им, как их собственное поведение может снизить угрозу и обеспечить безопаснос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Интерн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5086440" y="5910120"/>
            <a:ext cx="3952800" cy="1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5153040" y="1077840"/>
            <a:ext cx="353052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0" y="358920"/>
            <a:ext cx="9155160" cy="1338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33320" y="515520"/>
            <a:ext cx="7135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делите внимание тому, че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ти занимаются в Интер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60240" y="2000160"/>
            <a:ext cx="415296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жите компьюте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нтр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найте, для ч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и дети используют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льте Вашим детям учить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е их доверя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м инстинк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800080"/>
              </a:buClr>
              <a:buSzPct val="8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дите их сообщ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любых неприят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135400" y="2095560"/>
            <a:ext cx="2936880" cy="378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 Неустроев</dc:creator>
  <dc:description/>
  <dc:language>en-US</dc:language>
  <cp:lastModifiedBy>Дом</cp:lastModifiedBy>
  <dcterms:modified xsi:type="dcterms:W3CDTF">2020-11-08T14:07:46Z</dcterms:modified>
  <cp:revision>18</cp:revision>
  <dc:subject/>
  <dc:title>Презентация PowerPoint</dc:title>
</cp:coreProperties>
</file>